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2CDA-D630-44D5-80D5-C0EE0DFD76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7FEA-4FC8-4DEC-A4F0-6909CEF8725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1D0E-7439-4D8F-8E25-90FA1C1D681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9E18-E9BD-4AA0-B45F-FEE4CFE67C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ABE4-39AC-4EEB-B737-ED1C31AAEA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AFCD-D4C6-4E5E-AE34-D9E5A13311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A464-086F-4BF7-A6C4-D14BDE54EB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F82F-9646-4454-B496-4A7219A73D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57BF-A6FC-4A1F-9CB9-DACA9465B06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34CE-D8BC-4B03-AA2A-9A4AE0CD5A5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1641-CCB4-4DC1-A42B-4EA570001D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926C-F814-41EE-92FC-7AC3D544E3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1FA3-AE0D-4BA6-89FA-BF30733BD7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1F6D-F207-4409-A94B-353687579F6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0B86-E635-47EC-AF8A-1ECCDFD6FE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42AB-CBE9-490D-8B4F-779D9F2E66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D049-DB2F-4DEE-8D37-074B4015C8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7B9B-CFBE-4774-BC06-2ACF35C674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FB6B-7F84-4593-9BB0-C7764D974F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64B7-8073-4705-B3BE-4080683168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D205-F281-4C06-BE96-3450E269CA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B964-8ED0-4C7A-ACC9-3098C32EEE0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6F60-4963-4810-A262-D772E7DC751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DADA-9621-4371-A2AE-B1F2C1BDF6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2232-D265-4D16-9834-16BBF58ADBD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C3FB-7EE1-40CE-83B9-011323000A6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61F6-923E-4230-9274-F87225F17C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47AA-5822-4819-B848-6227B8366F3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77AC-7C21-4CEA-923A-B278B26FF72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82C4-AA74-4CC5-B1E2-CAC98CE2C2B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0D46-3090-4815-90F4-ED42B35486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FEA4-D1B0-4AB1-ACC7-32597BDFDFA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4376-3447-472E-990C-6CB64F158F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6DF9-815E-4C8F-877B-3F31495AC3D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56B0-B956-41C8-BA51-79E780607FD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EE07-D092-485A-8F58-75B52C95836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A432-8AC6-47D1-8308-86D803CB0FB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3BA9-F171-4505-A750-CE47C8C2FA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FC95-1D22-4554-8E30-5E347223D2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E30A-1EDB-4B51-8265-FD24E52F3A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B733-A368-4EA2-8589-1F6382417B8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B04F-13EF-4601-AAAA-CA566A3548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2CCA-9ACF-4103-B234-F3993E4E63D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FBEA-4A61-418C-B664-CE6F506C0BA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54D0-702E-4A8B-AA91-B797B060B4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9FA2-EB1C-4CA8-A23A-97855230C8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1CA4-45FC-46AC-B19E-873BB0706F0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BAF0-6804-4DFD-91A8-F50CBA58770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FF7-5A2C-42B1-9D65-B3A73F6B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CDA-53AD-4491-BC8D-5CBD627A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005-AB6F-423E-A6E4-7AF4B470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6FE-F956-4AD9-95C0-80237AB7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B63-589B-46FD-949A-3AB3B705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161-6F49-43F8-8101-04572440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6C7-8EA8-4864-9B35-8A40449F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51F-B4A2-4300-A218-34108BF7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5A6-D4F5-449B-8FA1-7C0C042B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8D2-476E-449C-8D88-BEEE8F5C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954-5DE5-4372-B8E4-634C36E2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679-F6C4-4E4A-B38F-80EB07A3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77A6-6E01-47BC-8ECC-C62A2E8B4931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听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tīngshuō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듣자 하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层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é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층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ǐ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개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帽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mào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모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á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비로소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ǎ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생각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219640"/>
            <a:ext cx="6381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300" spc="-1" strike="noStrike">
                <a:solidFill>
                  <a:srgbClr val="000000"/>
                </a:solidFill>
                <a:latin typeface="Arial"/>
              </a:rPr>
              <a:t>일으키다</a:t>
            </a: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300" spc="-1" strike="noStrike">
                <a:solidFill>
                  <a:srgbClr val="000000"/>
                </a:solidFill>
                <a:latin typeface="Arial"/>
              </a:rPr>
              <a:t>생기다</a:t>
            </a:r>
            <a:endParaRPr b="0" lang="en-US" sz="6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ó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로부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厨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chúfáng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주방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出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ūla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나오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最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zu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장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최고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旁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pángbiān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옆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근처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饺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o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두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교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ē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통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ì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편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礼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ǐwù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선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도착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为什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743520"/>
            <a:ext cx="626436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300" spc="-1" strike="noStrike">
                <a:solidFill>
                  <a:srgbClr val="000000"/>
                </a:solidFill>
                <a:latin typeface="Arial"/>
              </a:rPr>
              <a:t>wèi shénme</a:t>
            </a:r>
            <a:endParaRPr b="0" lang="en-US" sz="8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왜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刚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gāngcái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방금 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人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énkǒ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인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国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ójiā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국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반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餐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āntī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식당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个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è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0" spc="-1" strike="noStrike">
                <a:solidFill>
                  <a:srgbClr val="000000"/>
                </a:solidFill>
                <a:latin typeface="Arial"/>
              </a:rPr>
              <a:t>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ā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키가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크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包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āo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317920"/>
            <a:ext cx="638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바오즈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소가 든 찐빵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火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ǒguō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훠궈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중국식 신선로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小卖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xiǎomàibù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매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成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707160"/>
            <a:ext cx="62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hénggōng</a:t>
            </a: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성공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dàxué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대학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民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ínz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민족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太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àiyá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태양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阴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nti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흐린 날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흩어지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墨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òshu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먹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黑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ēib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칠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参观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cānguā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견학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电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iànsh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텔레비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fāngxiàng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방향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千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qiānwàn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부디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엄청나다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建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Box 7"/>
          <p:cNvSpPr/>
          <p:nvPr/>
        </p:nvSpPr>
        <p:spPr>
          <a:xfrm rot="10800000">
            <a:off x="333000" y="6350760"/>
            <a:ext cx="6264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500" spc="-1" strike="noStrike">
                <a:solidFill>
                  <a:srgbClr val="000000"/>
                </a:solidFill>
                <a:latin typeface="Arial"/>
              </a:rPr>
              <a:t>jiànshè</a:t>
            </a:r>
            <a:endParaRPr b="0" lang="en-US" sz="1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건설하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说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shuōhuà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말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ǎ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회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表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427080"/>
            <a:ext cx="62643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biǎoyǎn</a:t>
            </a:r>
            <a:endParaRPr b="0" lang="en-US" sz="1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공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精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ngcǎ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훌륭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午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ǔf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점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可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ělè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콜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5:04:16Z</dcterms:created>
  <dc:creator>System</dc:creator>
  <dc:description/>
  <dc:language>en-US</dc:language>
  <cp:lastModifiedBy>System</cp:lastModifiedBy>
  <dcterms:modified xsi:type="dcterms:W3CDTF">2014-01-28T04:11:46Z</dcterms:modified>
  <cp:revision>7</cp:revision>
  <dc:subject/>
  <dc:title>슬라이드 1</dc:title>
</cp:coreProperties>
</file>